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6640" y="692280"/>
            <a:ext cx="4622760" cy="346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35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722DCC3-B5B3-4E60-B09B-5E48AD06B6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8DF0C1B-8EA2-48B4-BFB9-0BB1D77FCB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B4344D7-DA42-4A1B-B7FF-A163892944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47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94B0F5D-2FAB-42F4-8C64-5A9125377C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8211792-A13B-4FA2-A312-6C145D3C5B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47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57A18D-523F-42CD-8752-482DD9AABB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47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FB1C564-2FC9-4CD5-838F-3EA68F0F46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D2862C9-5A57-474A-9A98-D75D1A9BF5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47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6129DEE-A4AD-4F28-8938-63B792CAA3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47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38F1D0E-4A61-41CC-8326-15AB671BFA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19D5E4A-D08F-4B22-9C74-7CBCBE7BC2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8D995B1-B17D-4F1D-A4BB-1C7BDC3EE4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2BDF5E1-4B6F-49E7-9BD6-499D74B487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B8248E7-FA1E-49E4-B326-031F271970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616B224-A7BB-4055-A438-F21164244D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47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7BA040E-60D0-46C1-A623-724F8C4B6C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151A22A-FBF4-4C0F-ABFC-5F7CB7B71C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3120" y="4389120"/>
            <a:ext cx="5143320" cy="4247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3A5-B3BF-4E84-96E0-578383F5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9E75-C9D5-4CC6-9FB8-10A6A94F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92A1-1A52-47CE-AC54-68B8D945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23A9-9BD3-4F1A-96A4-BAEF266F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709-FC69-4868-B02D-F2B6F78D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908-F303-4C4C-91F0-16542C0B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9643-07B0-41A4-8C7B-DF685912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9A3-3519-41A3-B908-EE17F709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62F8-EB96-43FA-93E8-68A1B0AD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00A-988D-4DBA-8772-9B99A39C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7E5-B428-4917-A4B8-43C2B232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761-4438-45D1-9CF4-65701971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808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D8AD-5871-4FF6-B29A-4F3D607E413B}" type="slidenum">
              <a:rPr b="0" lang="zh-TW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193760" y="2021040"/>
            <a:ext cx="6781680" cy="39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North Korea’s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Cambria"/>
                <a:ea typeface="굴림"/>
              </a:rPr>
              <a:t>Econom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Cambria"/>
                <a:ea typeface="굴림"/>
              </a:rPr>
              <a:t>Korea Economic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Cambria"/>
                <a:ea typeface="굴림"/>
              </a:rPr>
              <a:t>Washington,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Cambria"/>
                <a:ea typeface="굴림"/>
              </a:rPr>
              <a:t>www.keia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Cambria"/>
                <a:ea typeface="굴림"/>
              </a:rPr>
              <a:t>October 2007 V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20480" y="588600"/>
            <a:ext cx="80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Trade with Major Trading Partners </a:t>
            </a:r>
            <a:br>
              <a:rPr sz="3200"/>
            </a:br>
            <a:r>
              <a:rPr b="1" lang="ko-KR" sz="3200" spc="-1" strike="noStrike">
                <a:solidFill>
                  <a:srgbClr val="333300"/>
                </a:solidFill>
                <a:latin typeface="Cambria"/>
                <a:ea typeface="굴림"/>
              </a:rPr>
              <a:t>(2003)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5382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447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6629400" y="622944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KO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ject 97" descr=""/>
          <p:cNvPicPr/>
          <p:nvPr/>
        </p:nvPicPr>
        <p:blipFill>
          <a:blip r:embed="rId1"/>
          <a:stretch/>
        </p:blipFill>
        <p:spPr>
          <a:xfrm>
            <a:off x="936720" y="1531800"/>
            <a:ext cx="7453080" cy="5086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3"/>
          <p:cNvGraphicFramePr/>
          <p:nvPr/>
        </p:nvGraphicFramePr>
        <p:xfrm>
          <a:off x="909720" y="1752480"/>
          <a:ext cx="77738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752480"/>
                    <a:ext cx="7773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Object 33" descr=""/>
          <p:cNvPicPr/>
          <p:nvPr/>
        </p:nvPicPr>
        <p:blipFill>
          <a:blip r:embed="rId3"/>
          <a:stretch/>
        </p:blipFill>
        <p:spPr>
          <a:xfrm>
            <a:off x="-555480" y="1006560"/>
            <a:ext cx="10645560" cy="6062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39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North Korea’s Principal </a:t>
            </a:r>
            <a:br>
              <a:rPr sz="3200"/>
            </a:b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Trade Partners (2005)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Text Box 31"/>
          <p:cNvSpPr/>
          <p:nvPr/>
        </p:nvSpPr>
        <p:spPr>
          <a:xfrm>
            <a:off x="7208640" y="634536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Source: KO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148" descr=""/>
          <p:cNvPicPr/>
          <p:nvPr/>
        </p:nvPicPr>
        <p:blipFill>
          <a:blip r:embed="rId1"/>
          <a:stretch/>
        </p:blipFill>
        <p:spPr>
          <a:xfrm>
            <a:off x="-1189080" y="1698480"/>
            <a:ext cx="7635960" cy="5222880"/>
          </a:xfrm>
          <a:prstGeom prst="rect">
            <a:avLst/>
          </a:prstGeom>
          <a:ln w="0">
            <a:noFill/>
          </a:ln>
        </p:spPr>
      </p:pic>
      <p:pic>
        <p:nvPicPr>
          <p:cNvPr id="91" name="Object 147" descr=""/>
          <p:cNvPicPr/>
          <p:nvPr/>
        </p:nvPicPr>
        <p:blipFill>
          <a:blip r:embed="rId2"/>
          <a:stretch/>
        </p:blipFill>
        <p:spPr>
          <a:xfrm>
            <a:off x="3289320" y="1816200"/>
            <a:ext cx="6605640" cy="4510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North Korea’s Principal Trade </a:t>
            </a:r>
            <a:br>
              <a:rPr sz="3200"/>
            </a:b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Partners (2003 – 2004)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5382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447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6670440" y="6437160"/>
            <a:ext cx="185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Ministry of Un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5"/>
          <p:cNvSpPr/>
          <p:nvPr/>
        </p:nvSpPr>
        <p:spPr>
          <a:xfrm>
            <a:off x="2312280" y="1962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4"/>
          <p:cNvSpPr/>
          <p:nvPr/>
        </p:nvSpPr>
        <p:spPr>
          <a:xfrm>
            <a:off x="6203520" y="19591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149" descr=""/>
          <p:cNvPicPr/>
          <p:nvPr/>
        </p:nvPicPr>
        <p:blipFill>
          <a:blip r:embed="rId1"/>
          <a:stretch/>
        </p:blipFill>
        <p:spPr>
          <a:xfrm>
            <a:off x="2833560" y="1527120"/>
            <a:ext cx="7647120" cy="5229360"/>
          </a:xfrm>
          <a:prstGeom prst="rect">
            <a:avLst/>
          </a:prstGeom>
          <a:ln w="0">
            <a:noFill/>
          </a:ln>
        </p:spPr>
      </p:pic>
      <p:pic>
        <p:nvPicPr>
          <p:cNvPr id="99" name="Object 148" descr=""/>
          <p:cNvPicPr/>
          <p:nvPr/>
        </p:nvPicPr>
        <p:blipFill>
          <a:blip r:embed="rId2"/>
          <a:stretch/>
        </p:blipFill>
        <p:spPr>
          <a:xfrm>
            <a:off x="-1109520" y="1568520"/>
            <a:ext cx="7624800" cy="5213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North Korea’s Principal Trade </a:t>
            </a:r>
            <a:br>
              <a:rPr sz="3200"/>
            </a:b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Partners (2001 – 2002)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5382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447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6599160" y="6465960"/>
            <a:ext cx="185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Ministry of Un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3"/>
          <p:cNvSpPr/>
          <p:nvPr/>
        </p:nvSpPr>
        <p:spPr>
          <a:xfrm>
            <a:off x="2363040" y="19875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6"/>
          <p:cNvSpPr/>
          <p:nvPr/>
        </p:nvSpPr>
        <p:spPr>
          <a:xfrm>
            <a:off x="6368400" y="19843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19" descr=""/>
          <p:cNvPicPr/>
          <p:nvPr/>
        </p:nvPicPr>
        <p:blipFill>
          <a:blip r:embed="rId1"/>
          <a:stretch/>
        </p:blipFill>
        <p:spPr>
          <a:xfrm>
            <a:off x="-485640" y="932040"/>
            <a:ext cx="9629640" cy="5227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3120" y="176040"/>
            <a:ext cx="77598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Inter- Korean Trade 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638760" y="6110280"/>
            <a:ext cx="234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National Statistical Office (2000-2005 data), Ministry of Unification (2006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301" descr=""/>
          <p:cNvPicPr/>
          <p:nvPr/>
        </p:nvPicPr>
        <p:blipFill>
          <a:blip r:embed="rId1"/>
          <a:stretch/>
        </p:blipFill>
        <p:spPr>
          <a:xfrm>
            <a:off x="1096920" y="996840"/>
            <a:ext cx="8047080" cy="5237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76240" y="53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South Korean Exports to </a:t>
            </a:r>
            <a:br>
              <a:rPr sz="3200"/>
            </a:b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North Korea By Type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5382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60020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541920" y="6337440"/>
            <a:ext cx="185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Ministry of Un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02"/>
          <p:cNvSpPr/>
          <p:nvPr/>
        </p:nvSpPr>
        <p:spPr>
          <a:xfrm>
            <a:off x="7705800" y="2879640"/>
            <a:ext cx="80316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Note: Data on ROK commercial export volume and non-commercial export volume are not available for 2005-200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South Korea’s Processing-on-</a:t>
            </a:r>
            <a:br>
              <a:rPr sz="3200"/>
            </a:b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Commission Trade with North Korea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5382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132320" y="6529320"/>
            <a:ext cx="185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Ministry of Un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Content Placeholder 6" descr=""/>
          <p:cNvPicPr/>
          <p:nvPr/>
        </p:nvPicPr>
        <p:blipFill>
          <a:blip r:embed="rId1"/>
          <a:stretch/>
        </p:blipFill>
        <p:spPr>
          <a:xfrm>
            <a:off x="682560" y="1974960"/>
            <a:ext cx="7778880" cy="4127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510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  </a:t>
            </a: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Nominal and Per Capita GNI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882120" y="621648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Bank of Ko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Content Placeholder 5" descr=""/>
          <p:cNvPicPr/>
          <p:nvPr/>
        </p:nvPicPr>
        <p:blipFill>
          <a:blip r:embed="rId1"/>
          <a:stretch/>
        </p:blipFill>
        <p:spPr>
          <a:xfrm>
            <a:off x="682560" y="1573200"/>
            <a:ext cx="77788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30400" y="5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Population and Per Capita GNI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Text Box 24"/>
          <p:cNvSpPr/>
          <p:nvPr/>
        </p:nvSpPr>
        <p:spPr>
          <a:xfrm>
            <a:off x="6877440" y="630720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Bank of Ko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5" descr=""/>
          <p:cNvPicPr/>
          <p:nvPr/>
        </p:nvPicPr>
        <p:blipFill>
          <a:blip r:embed="rId1"/>
          <a:stretch/>
        </p:blipFill>
        <p:spPr>
          <a:xfrm>
            <a:off x="682560" y="1573200"/>
            <a:ext cx="7778880" cy="452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8"/>
          <p:cNvSpPr/>
          <p:nvPr/>
        </p:nvSpPr>
        <p:spPr>
          <a:xfrm>
            <a:off x="5076720" y="6381720"/>
            <a:ext cx="352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6496200" y="6229440"/>
            <a:ext cx="204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Bank of Ko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</a:rPr>
              <a:t>GDP Growth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9" name="Content Placeholder 6" descr=""/>
          <p:cNvPicPr/>
          <p:nvPr/>
        </p:nvPicPr>
        <p:blipFill>
          <a:blip r:embed="rId1"/>
          <a:stretch/>
        </p:blipFill>
        <p:spPr>
          <a:xfrm>
            <a:off x="682560" y="1573200"/>
            <a:ext cx="77788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88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Industrial Structure in 2006 </a:t>
            </a:r>
            <a:br>
              <a:rPr sz="3200"/>
            </a:br>
            <a:r>
              <a:rPr b="1" lang="en-US" sz="1400" spc="-1" strike="noStrike">
                <a:solidFill>
                  <a:srgbClr val="333300"/>
                </a:solidFill>
                <a:latin typeface="Cambria"/>
                <a:ea typeface="굴림"/>
              </a:rPr>
              <a:t>(Percentage of Total GDP)</a:t>
            </a:r>
            <a:endParaRPr b="0" i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029360" y="622944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Bank of Ko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ject 28" descr=""/>
          <p:cNvPicPr/>
          <p:nvPr/>
        </p:nvPicPr>
        <p:blipFill>
          <a:blip r:embed="rId1"/>
          <a:stretch/>
        </p:blipFill>
        <p:spPr>
          <a:xfrm>
            <a:off x="163440" y="1008000"/>
            <a:ext cx="8551800" cy="585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2716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GDP Growth Rates by Industry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248520" y="6267600"/>
            <a:ext cx="272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굴림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Bank of Ko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53"/>
          <p:cNvSpPr/>
          <p:nvPr/>
        </p:nvSpPr>
        <p:spPr>
          <a:xfrm>
            <a:off x="5091120" y="63007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ontent Placeholder 6" descr=""/>
          <p:cNvPicPr/>
          <p:nvPr/>
        </p:nvPicPr>
        <p:blipFill>
          <a:blip r:embed="rId1"/>
          <a:stretch/>
        </p:blipFill>
        <p:spPr>
          <a:xfrm>
            <a:off x="682560" y="1573200"/>
            <a:ext cx="7778880" cy="452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30400" y="44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North Korea’s External Trade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5382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447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7359480" y="640224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KO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Object 132" descr=""/>
          <p:cNvPicPr/>
          <p:nvPr/>
        </p:nvPicPr>
        <p:blipFill>
          <a:blip r:embed="rId1"/>
          <a:stretch/>
        </p:blipFill>
        <p:spPr>
          <a:xfrm>
            <a:off x="650880" y="1601640"/>
            <a:ext cx="7689960" cy="465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86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Trade with Major Trading Partners </a:t>
            </a:r>
            <a:br>
              <a:rPr sz="3200"/>
            </a:br>
            <a:r>
              <a:rPr b="1" lang="ko-KR" sz="3200" spc="-1" strike="noStrike">
                <a:solidFill>
                  <a:srgbClr val="333300"/>
                </a:solidFill>
                <a:latin typeface="Cambria"/>
                <a:ea typeface="굴림"/>
              </a:rPr>
              <a:t>(</a:t>
            </a: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2005)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6827760" y="633744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KO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ject 85" descr=""/>
          <p:cNvPicPr/>
          <p:nvPr/>
        </p:nvPicPr>
        <p:blipFill>
          <a:blip r:embed="rId1"/>
          <a:stretch/>
        </p:blipFill>
        <p:spPr>
          <a:xfrm>
            <a:off x="1025640" y="1655640"/>
            <a:ext cx="6949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21"/>
          <p:cNvSpPr/>
          <p:nvPr/>
        </p:nvSpPr>
        <p:spPr>
          <a:xfrm>
            <a:off x="15382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2"/>
          <p:cNvSpPr/>
          <p:nvPr/>
        </p:nvSpPr>
        <p:spPr>
          <a:xfrm>
            <a:off x="1447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23"/>
          <p:cNvSpPr/>
          <p:nvPr/>
        </p:nvSpPr>
        <p:spPr>
          <a:xfrm>
            <a:off x="6629400" y="622944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urce: KO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60520" y="5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Cambria"/>
                <a:ea typeface="굴림"/>
              </a:rPr>
              <a:t>Trade with Major Trading Partners </a:t>
            </a:r>
            <a:br>
              <a:rPr sz="3200"/>
            </a:br>
            <a:r>
              <a:rPr b="1" lang="ko-KR" sz="3200" spc="-1" strike="noStrike">
                <a:solidFill>
                  <a:srgbClr val="333300"/>
                </a:solidFill>
                <a:latin typeface="Cambria"/>
                <a:ea typeface="굴림"/>
              </a:rPr>
              <a:t>(2004)</a:t>
            </a:r>
            <a:endParaRPr b="0" i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9" name="Object 402" descr=""/>
          <p:cNvPicPr/>
          <p:nvPr/>
        </p:nvPicPr>
        <p:blipFill>
          <a:blip r:embed="rId1"/>
          <a:stretch/>
        </p:blipFill>
        <p:spPr>
          <a:xfrm>
            <a:off x="1117440" y="1643040"/>
            <a:ext cx="7112160" cy="486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3T20:52:49Z</dcterms:created>
  <dc:creator>KPMG Peat Marwick LLP</dc:creator>
  <dc:description/>
  <dc:language>en-US</dc:language>
  <cp:lastModifiedBy> </cp:lastModifiedBy>
  <cp:lastPrinted>2004-03-02T14:02:42Z</cp:lastPrinted>
  <dcterms:modified xsi:type="dcterms:W3CDTF">2007-11-06T18:53:19Z</dcterms:modified>
  <cp:revision>1706</cp:revision>
  <dc:subject/>
  <dc:title>Short-Term Debt/FX Reserves</dc:title>
</cp:coreProperties>
</file>