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8.wmf" ContentType="image/x-wmf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5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6640" y="692280"/>
            <a:ext cx="4622760" cy="346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3120" y="4389120"/>
            <a:ext cx="5143320" cy="4235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688DCE5-ADAD-4551-A4B3-80886D3DCC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56AAB5D-745D-47E7-B506-D06599D2FE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3120" y="4389120"/>
            <a:ext cx="514332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F4CF413-057A-4E1C-A408-3FFC020D6D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33120" y="4389120"/>
            <a:ext cx="5143320" cy="4247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90F4A4D-0801-4724-A066-F5FADBD8B2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33120" y="4389120"/>
            <a:ext cx="514332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B3E7FA5-F64E-44A9-87D7-180EDC138A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33120" y="4389120"/>
            <a:ext cx="5143320" cy="4247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CEA415B-EA5A-44C2-99D5-C32040DDD8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33120" y="4389120"/>
            <a:ext cx="5143320" cy="4247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F3B3EB3-CF02-4B3D-9CDC-46A597CC03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33120" y="4389120"/>
            <a:ext cx="514332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7963456-5962-45DF-B92E-9C38B10F92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33120" y="4389120"/>
            <a:ext cx="5143320" cy="4247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13BAE9D-A448-404F-AD60-C932A8927E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33120" y="4389120"/>
            <a:ext cx="5143320" cy="4247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CCA82A9-40B4-4460-8B91-5077BF683D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33120" y="4389120"/>
            <a:ext cx="514332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CA65B20-502D-49AE-A0A3-E6D3134488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33120" y="4389120"/>
            <a:ext cx="514332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C280799-6637-423B-8CEE-5652FB9F18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33120" y="4389120"/>
            <a:ext cx="514332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5E606A3-D20C-4AF5-92A1-9FBC1B1272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33120" y="4389120"/>
            <a:ext cx="514332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13EE6E9-CAB0-4EB0-B80B-3FAB320C24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3120" y="4389120"/>
            <a:ext cx="514332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C417947-89F4-42B1-A593-AEEF926917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3120" y="4389120"/>
            <a:ext cx="5143320" cy="4247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78EEA50-1810-4562-A541-5E832D2E92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3120" y="4389120"/>
            <a:ext cx="514332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C1C8C91-86E2-4C8F-B016-39D54F7566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3120" y="4389120"/>
            <a:ext cx="5143320" cy="4247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A9B6-BFF0-4EEB-B959-929BD2688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B5C3-7FF5-4416-962C-4101ED75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F513-BBFE-450A-B88C-0EA26B94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925D-50B0-4C3E-B3FF-56B41965A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9CD5-9339-4B96-8722-F5D09E12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1754-8A0C-4DE8-B15F-A2B0760B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48B1-5A05-45E1-A176-8730C84E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656A-55BC-4CB8-B8D0-4B81F808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D8E5-8EA5-456E-B6CA-6131CAE0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7DC7-B706-4A61-82CA-0F2B7EEA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866A-BF88-4016-8169-F3C44127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2612-6660-4ECB-9E56-D5B24FC3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8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808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39DA-C0BA-46C8-8E99-E454B4A377FC}" type="slidenum">
              <a:rPr b="0" lang="zh-TW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193760" y="2021040"/>
            <a:ext cx="6781680" cy="39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North Korea’s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00"/>
                </a:solidFill>
                <a:latin typeface="Cambria"/>
                <a:ea typeface="굴림"/>
              </a:rPr>
              <a:t>Economic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Cambria"/>
                <a:ea typeface="굴림"/>
              </a:rPr>
              <a:t>Korea Economic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Cambria"/>
                <a:ea typeface="굴림"/>
              </a:rPr>
              <a:t>Washington, 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Cambria"/>
                <a:ea typeface="굴림"/>
              </a:rPr>
              <a:t>www.keia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Cambria"/>
                <a:ea typeface="굴림"/>
              </a:rPr>
              <a:t>October 2007 V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20480" y="588600"/>
            <a:ext cx="80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Trade with Major Trading Partners </a:t>
            </a:r>
            <a:br>
              <a:rPr sz="3200"/>
            </a:br>
            <a:r>
              <a:rPr b="1" lang="ko-KR" sz="3200" spc="-1" strike="noStrike">
                <a:solidFill>
                  <a:srgbClr val="333300"/>
                </a:solidFill>
                <a:latin typeface="Cambria"/>
                <a:ea typeface="굴림"/>
              </a:rPr>
              <a:t>(2003)</a:t>
            </a:r>
            <a:endParaRPr b="0" i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53828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44792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6629400" y="622944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ource: KO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ject 97" descr=""/>
          <p:cNvPicPr/>
          <p:nvPr/>
        </p:nvPicPr>
        <p:blipFill>
          <a:blip r:embed="rId1"/>
          <a:stretch/>
        </p:blipFill>
        <p:spPr>
          <a:xfrm>
            <a:off x="936720" y="1531800"/>
            <a:ext cx="7453080" cy="5086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3"/>
          <p:cNvGraphicFramePr/>
          <p:nvPr/>
        </p:nvGraphicFramePr>
        <p:xfrm>
          <a:off x="909720" y="1752480"/>
          <a:ext cx="77738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9720" y="1752480"/>
                    <a:ext cx="77738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Object 33" descr=""/>
          <p:cNvPicPr/>
          <p:nvPr/>
        </p:nvPicPr>
        <p:blipFill>
          <a:blip r:embed="rId3"/>
          <a:stretch/>
        </p:blipFill>
        <p:spPr>
          <a:xfrm>
            <a:off x="-555480" y="1006560"/>
            <a:ext cx="10645560" cy="6062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39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North Korea’s Principal </a:t>
            </a:r>
            <a:br>
              <a:rPr sz="3200"/>
            </a:br>
            <a:r>
              <a:rPr b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Trade Partners (2005)</a:t>
            </a:r>
            <a:endParaRPr b="0" i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Text Box 31"/>
          <p:cNvSpPr/>
          <p:nvPr/>
        </p:nvSpPr>
        <p:spPr>
          <a:xfrm>
            <a:off x="7208640" y="634536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Source: KO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148" descr=""/>
          <p:cNvPicPr/>
          <p:nvPr/>
        </p:nvPicPr>
        <p:blipFill>
          <a:blip r:embed="rId1"/>
          <a:stretch/>
        </p:blipFill>
        <p:spPr>
          <a:xfrm>
            <a:off x="-1189080" y="1698480"/>
            <a:ext cx="7635960" cy="5222880"/>
          </a:xfrm>
          <a:prstGeom prst="rect">
            <a:avLst/>
          </a:prstGeom>
          <a:ln w="0">
            <a:noFill/>
          </a:ln>
        </p:spPr>
      </p:pic>
      <p:pic>
        <p:nvPicPr>
          <p:cNvPr id="91" name="Object 147" descr=""/>
          <p:cNvPicPr/>
          <p:nvPr/>
        </p:nvPicPr>
        <p:blipFill>
          <a:blip r:embed="rId2"/>
          <a:stretch/>
        </p:blipFill>
        <p:spPr>
          <a:xfrm>
            <a:off x="3289320" y="1816200"/>
            <a:ext cx="6605640" cy="4510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North Korea’s Principal Trade </a:t>
            </a:r>
            <a:br>
              <a:rPr sz="3200"/>
            </a:br>
            <a:r>
              <a:rPr b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Partners (2003 – 2004)</a:t>
            </a:r>
            <a:endParaRPr b="0" i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53828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44792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6670440" y="6437160"/>
            <a:ext cx="185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ource: Ministry of Un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5"/>
          <p:cNvSpPr/>
          <p:nvPr/>
        </p:nvSpPr>
        <p:spPr>
          <a:xfrm>
            <a:off x="2312280" y="19620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4"/>
          <p:cNvSpPr/>
          <p:nvPr/>
        </p:nvSpPr>
        <p:spPr>
          <a:xfrm>
            <a:off x="6203520" y="19591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149" descr=""/>
          <p:cNvPicPr/>
          <p:nvPr/>
        </p:nvPicPr>
        <p:blipFill>
          <a:blip r:embed="rId1"/>
          <a:stretch/>
        </p:blipFill>
        <p:spPr>
          <a:xfrm>
            <a:off x="2833560" y="1527120"/>
            <a:ext cx="7647120" cy="5229360"/>
          </a:xfrm>
          <a:prstGeom prst="rect">
            <a:avLst/>
          </a:prstGeom>
          <a:ln w="0">
            <a:noFill/>
          </a:ln>
        </p:spPr>
      </p:pic>
      <p:pic>
        <p:nvPicPr>
          <p:cNvPr id="99" name="Object 148" descr=""/>
          <p:cNvPicPr/>
          <p:nvPr/>
        </p:nvPicPr>
        <p:blipFill>
          <a:blip r:embed="rId2"/>
          <a:stretch/>
        </p:blipFill>
        <p:spPr>
          <a:xfrm>
            <a:off x="-1109520" y="1568520"/>
            <a:ext cx="7624800" cy="52131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North Korea’s Principal Trade </a:t>
            </a:r>
            <a:br>
              <a:rPr sz="3200"/>
            </a:br>
            <a:r>
              <a:rPr b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Partners (2001 – 2002)</a:t>
            </a:r>
            <a:endParaRPr b="0" i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53828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44792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6599160" y="6465960"/>
            <a:ext cx="185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ource: Ministry of Un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3"/>
          <p:cNvSpPr/>
          <p:nvPr/>
        </p:nvSpPr>
        <p:spPr>
          <a:xfrm>
            <a:off x="2363040" y="19875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6"/>
          <p:cNvSpPr/>
          <p:nvPr/>
        </p:nvSpPr>
        <p:spPr>
          <a:xfrm>
            <a:off x="6368400" y="19843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19" descr=""/>
          <p:cNvPicPr/>
          <p:nvPr/>
        </p:nvPicPr>
        <p:blipFill>
          <a:blip r:embed="rId1"/>
          <a:stretch/>
        </p:blipFill>
        <p:spPr>
          <a:xfrm>
            <a:off x="-485640" y="932040"/>
            <a:ext cx="9629640" cy="52275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3120" y="176040"/>
            <a:ext cx="77598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Inter- Korean Trade </a:t>
            </a:r>
            <a:endParaRPr b="0" i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6638760" y="6110280"/>
            <a:ext cx="2343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ource: National Statistical Office (2000-2005 data), Ministry of Unification (2006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301" descr=""/>
          <p:cNvPicPr/>
          <p:nvPr/>
        </p:nvPicPr>
        <p:blipFill>
          <a:blip r:embed="rId1"/>
          <a:stretch/>
        </p:blipFill>
        <p:spPr>
          <a:xfrm>
            <a:off x="1096920" y="996840"/>
            <a:ext cx="8047080" cy="52372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76240" y="53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South Korean Exports to </a:t>
            </a:r>
            <a:br>
              <a:rPr sz="3200"/>
            </a:br>
            <a:r>
              <a:rPr b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North Korea By Type</a:t>
            </a:r>
            <a:endParaRPr b="0" i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53828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60020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6541920" y="6337440"/>
            <a:ext cx="185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ource: Ministry of Un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02"/>
          <p:cNvSpPr/>
          <p:nvPr/>
        </p:nvSpPr>
        <p:spPr>
          <a:xfrm>
            <a:off x="7705800" y="2879640"/>
            <a:ext cx="80316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Note: Data on ROK commercial export volume and non-commercial export volume are not available for 2005-2006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South Korea’s Processing-on-</a:t>
            </a:r>
            <a:br>
              <a:rPr sz="3200"/>
            </a:br>
            <a:r>
              <a:rPr b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Commission Trade with North Korea</a:t>
            </a:r>
            <a:endParaRPr b="0" i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53828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132320" y="6529320"/>
            <a:ext cx="185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ource: Ministry of Un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Content Placeholder 6" descr=""/>
          <p:cNvPicPr/>
          <p:nvPr/>
        </p:nvPicPr>
        <p:blipFill>
          <a:blip r:embed="rId1"/>
          <a:stretch/>
        </p:blipFill>
        <p:spPr>
          <a:xfrm>
            <a:off x="682560" y="1974960"/>
            <a:ext cx="7778880" cy="4127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510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  </a:t>
            </a:r>
            <a:r>
              <a:rPr b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Nominal and Per Capita GNI</a:t>
            </a:r>
            <a:endParaRPr b="0" i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6882120" y="6216480"/>
            <a:ext cx="145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ource: Bank of Ko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Content Placeholder 5" descr=""/>
          <p:cNvPicPr/>
          <p:nvPr/>
        </p:nvPicPr>
        <p:blipFill>
          <a:blip r:embed="rId1"/>
          <a:stretch/>
        </p:blipFill>
        <p:spPr>
          <a:xfrm>
            <a:off x="682560" y="1573200"/>
            <a:ext cx="777888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30400" y="5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Population and Per Capita GNI</a:t>
            </a:r>
            <a:endParaRPr b="0" i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Text Box 24"/>
          <p:cNvSpPr/>
          <p:nvPr/>
        </p:nvSpPr>
        <p:spPr>
          <a:xfrm>
            <a:off x="6877440" y="6307200"/>
            <a:ext cx="145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ource: Bank of Ko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ontent Placeholder 5" descr=""/>
          <p:cNvPicPr/>
          <p:nvPr/>
        </p:nvPicPr>
        <p:blipFill>
          <a:blip r:embed="rId1"/>
          <a:stretch/>
        </p:blipFill>
        <p:spPr>
          <a:xfrm>
            <a:off x="682560" y="1573200"/>
            <a:ext cx="7778880" cy="4529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8"/>
          <p:cNvSpPr/>
          <p:nvPr/>
        </p:nvSpPr>
        <p:spPr>
          <a:xfrm>
            <a:off x="5076720" y="6381720"/>
            <a:ext cx="352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6496200" y="6229440"/>
            <a:ext cx="204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ource: Bank of Ko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Cambria"/>
              </a:rPr>
              <a:t>GDP Growth</a:t>
            </a:r>
            <a:endParaRPr b="0" i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9" name="Content Placeholder 6" descr=""/>
          <p:cNvPicPr/>
          <p:nvPr/>
        </p:nvPicPr>
        <p:blipFill>
          <a:blip r:embed="rId1"/>
          <a:stretch/>
        </p:blipFill>
        <p:spPr>
          <a:xfrm>
            <a:off x="682560" y="1573200"/>
            <a:ext cx="777888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888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Industrial Structure in 2006 </a:t>
            </a:r>
            <a:br>
              <a:rPr sz="3200"/>
            </a:br>
            <a:r>
              <a:rPr b="1" lang="en-US" sz="1400" spc="-1" strike="noStrike">
                <a:solidFill>
                  <a:srgbClr val="333300"/>
                </a:solidFill>
                <a:latin typeface="Cambria"/>
                <a:ea typeface="굴림"/>
              </a:rPr>
              <a:t>(Percentage of Total GDP)</a:t>
            </a:r>
            <a:endParaRPr b="0" i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029360" y="622944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ource: Bank of Ko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ject 28" descr=""/>
          <p:cNvPicPr/>
          <p:nvPr/>
        </p:nvPicPr>
        <p:blipFill>
          <a:blip r:embed="rId1"/>
          <a:stretch/>
        </p:blipFill>
        <p:spPr>
          <a:xfrm>
            <a:off x="163440" y="1008000"/>
            <a:ext cx="8551800" cy="585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2716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GDP Growth Rates by Industry</a:t>
            </a:r>
            <a:endParaRPr b="0" i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248520" y="6267600"/>
            <a:ext cx="272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굴림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ource: Bank of Ko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53"/>
          <p:cNvSpPr/>
          <p:nvPr/>
        </p:nvSpPr>
        <p:spPr>
          <a:xfrm>
            <a:off x="5091120" y="630072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Content Placeholder 6" descr=""/>
          <p:cNvPicPr/>
          <p:nvPr/>
        </p:nvPicPr>
        <p:blipFill>
          <a:blip r:embed="rId1"/>
          <a:stretch/>
        </p:blipFill>
        <p:spPr>
          <a:xfrm>
            <a:off x="682560" y="1573200"/>
            <a:ext cx="7778880" cy="4529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30400" y="44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North Korea’s External Trade</a:t>
            </a:r>
            <a:endParaRPr b="0" i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53828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44792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7359480" y="640224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ource: KO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Object 132" descr=""/>
          <p:cNvPicPr/>
          <p:nvPr/>
        </p:nvPicPr>
        <p:blipFill>
          <a:blip r:embed="rId1"/>
          <a:stretch/>
        </p:blipFill>
        <p:spPr>
          <a:xfrm>
            <a:off x="650880" y="1601640"/>
            <a:ext cx="7689960" cy="4654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86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Trade with Major Trading Partners </a:t>
            </a:r>
            <a:br>
              <a:rPr sz="3200"/>
            </a:br>
            <a:r>
              <a:rPr b="1" lang="ko-KR" sz="3200" spc="-1" strike="noStrike">
                <a:solidFill>
                  <a:srgbClr val="333300"/>
                </a:solidFill>
                <a:latin typeface="Cambria"/>
                <a:ea typeface="굴림"/>
              </a:rPr>
              <a:t>(</a:t>
            </a:r>
            <a:r>
              <a:rPr b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2005)</a:t>
            </a:r>
            <a:endParaRPr b="0" i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6827760" y="633744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ource: KO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Object 85" descr=""/>
          <p:cNvPicPr/>
          <p:nvPr/>
        </p:nvPicPr>
        <p:blipFill>
          <a:blip r:embed="rId1"/>
          <a:stretch/>
        </p:blipFill>
        <p:spPr>
          <a:xfrm>
            <a:off x="1025640" y="1655640"/>
            <a:ext cx="69498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21"/>
          <p:cNvSpPr/>
          <p:nvPr/>
        </p:nvSpPr>
        <p:spPr>
          <a:xfrm>
            <a:off x="153828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2"/>
          <p:cNvSpPr/>
          <p:nvPr/>
        </p:nvSpPr>
        <p:spPr>
          <a:xfrm>
            <a:off x="144792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23"/>
          <p:cNvSpPr/>
          <p:nvPr/>
        </p:nvSpPr>
        <p:spPr>
          <a:xfrm>
            <a:off x="6629400" y="622944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ource: KO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60520" y="5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Trade with Major Trading Partners </a:t>
            </a:r>
            <a:br>
              <a:rPr sz="3200"/>
            </a:br>
            <a:r>
              <a:rPr b="1" lang="ko-KR" sz="3200" spc="-1" strike="noStrike">
                <a:solidFill>
                  <a:srgbClr val="333300"/>
                </a:solidFill>
                <a:latin typeface="Cambria"/>
                <a:ea typeface="굴림"/>
              </a:rPr>
              <a:t>(2004)</a:t>
            </a:r>
            <a:endParaRPr b="0" i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9" name="Object 402" descr=""/>
          <p:cNvPicPr/>
          <p:nvPr/>
        </p:nvPicPr>
        <p:blipFill>
          <a:blip r:embed="rId1"/>
          <a:stretch/>
        </p:blipFill>
        <p:spPr>
          <a:xfrm>
            <a:off x="1117440" y="1643040"/>
            <a:ext cx="7112160" cy="486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3T20:52:49Z</dcterms:created>
  <dc:creator>KPMG Peat Marwick LLP</dc:creator>
  <dc:description/>
  <dc:language>en-US</dc:language>
  <cp:lastModifiedBy> </cp:lastModifiedBy>
  <cp:lastPrinted>2004-03-02T14:02:42Z</cp:lastPrinted>
  <dcterms:modified xsi:type="dcterms:W3CDTF">2007-11-06T18:53:19Z</dcterms:modified>
  <cp:revision>1706</cp:revision>
  <dc:subject/>
  <dc:title>Short-Term Debt/FX Reserves</dc:title>
</cp:coreProperties>
</file>